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AA4-46FC-41F4-88A9-3F6D9E50A9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0102-C83A-4D4D-BD9C-10DEE9D77C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25D-A8C1-496D-BA71-5C3E3C74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495-B081-4544-8900-EA0C676A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1AF-DB59-417F-9273-AA37EA50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978-0895-45B3-9A0B-8CFAC8FB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5FA-5625-4B78-81E9-75DC3A2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9965-4718-4098-BE37-F8578CC7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D060-596C-4EFB-A611-ECFCE74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69C-3B14-4A3F-8E70-38E4454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8C71-7BEA-4756-90C5-9D3201A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590-5A1D-4EB3-AE02-E7133AE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2F1D-68A8-4F12-A7E8-40F00E1B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CFA-5A7A-41D1-B5E6-31F4649D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837-8C2B-427B-BA2F-076FBAD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5822-BD8F-43C5-A7A9-F47E4E5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C9DC-ED3D-418C-A1D6-208B828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F405-E62A-4475-BEBE-D6E88226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2F2-80FB-4E0B-AE9D-FD81ED7D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777C5-506E-4FC0-A267-F4895FEB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7AFA1-0D06-4F4C-BDD6-719348D8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91676-5478-463A-A35B-4A9CE5F7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A79E6-D14B-4FE4-9158-0EA64EC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5DD63-FC68-4559-B7D7-4D0C81C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1CE-7BC2-47EB-9E35-EE75C94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1992-C08E-4F51-B43F-63321470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8352D-F148-4F06-B58C-4E18631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589C9-D1F0-4055-9F20-AEFAABB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A3095-FAA5-4B4E-9FA7-AA24EFC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316E0-5972-4852-B5E9-2EE0E9C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074BA-15B1-4183-B32B-862E4863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654AD-25B1-49A6-99D6-05EFAF8B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CB10-EFF7-42CE-BB5F-89A55D10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03BF-CEF0-4FD9-8A96-60B345B2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5F9B-A094-4D6E-AA7A-B97EDE5E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980-E0BA-408E-AEBF-CADFDEE4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93EC-73EF-442C-A8D5-F9903F1C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FD5A-420D-4A4F-875A-CB1C838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FCE8-38DB-449C-9B4C-FD084ECA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85EB-1720-426C-BFFA-12750A0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14F4-C484-4734-9703-4461252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51C2-7C98-4015-AA35-01B7BB4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8FAF-E7EA-4BA0-A6E2-3FE5B9E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DF20-198F-432E-9C25-8BA6C93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21C5-D8D0-43AC-9022-2E941307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7DE03-F971-41A3-8073-1397AAF8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9A6-B8FB-450F-887E-046E9AA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AC3CB-90DE-44DE-AD4C-241C1EA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F5F51-D0BD-455F-A612-1492766E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66CB5-A5CE-494D-8F3E-520DE164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8B33B-47F5-42E2-9C49-CA9EAC72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047D7-390F-4D76-8F7D-E81C2B6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417A5-D78C-4346-B23F-68004F7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6681B-8EE1-49CD-A9F1-BF75C74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3D8CF-7866-4DAD-98D5-66F78F7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65148-8649-402E-9879-EC0731FA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52E21-F024-4567-98E2-30420DAD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E62-3E4D-4B6D-8C19-180BC59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84801-8939-4875-8F41-1D3D748E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7053D-2D9E-4B28-8E41-6402E251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300A9-2E21-4884-A13C-F4C8EB3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30491-6719-4CBB-A46E-0C62D69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F1971-88E0-417B-8127-69738B7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3530E-88BE-4308-A89C-4AC31198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6E453-9DFE-4797-8D51-FB84691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A3BB1-549F-4EA3-B090-96E6B5D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D44F4-DC7D-46B2-852A-A35DA76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DFEDC-984F-4501-A7EA-7456D07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4B1-A523-4A55-B0B6-D6B2CB0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50F1B-AE49-442F-9833-E4A623C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46969-1385-4C45-A28C-745F5D9C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7B8C5-DB5F-424E-A2CC-7F068CD0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0870D-1A57-4C42-8B52-B7BB01E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F88D9-13E8-4F8B-A287-C720508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664FD-DACF-46B1-A038-5EB3249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A61E1-AA02-4ADD-8E23-C64EFBC8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72039-05AE-49B8-B3F6-852437C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ED0A4-7028-4B7D-82B7-70D514C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866D7-3609-455B-AD71-EC23C1D1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F70-1778-43F6-A550-41108B3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D1E49-4D7E-4E00-AB09-BBC44F6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5FD57-F6ED-4786-86C7-7DAADB2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846BF-88AA-4818-892A-569C141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8AC77-05B7-4742-8A60-57C5C1D7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3DF3E-62DE-4EB9-AFD4-E37DC112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9502-D733-4360-A719-0C588DAD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D56EE-0C90-429F-8CA1-701D38A7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CE3A-FD0E-4CBF-BB74-91523EEF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54E4-5CA6-433B-8C71-DE6B9526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480D8-E9E7-40A7-A8EB-8D522D6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943-A77F-495B-B17E-3A6A684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AD253-DA6F-4D6E-B416-939FA48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8F692-751D-4312-A2D8-E821698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CD53-808F-435F-BC9F-DD2E642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497AA-7E66-48DB-9EB0-242211A7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15A35-A621-4B1A-8AD8-16ED25F8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27B1C-F7BD-403A-A767-3239F0B1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4E9E-D002-4048-A1D7-503428A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C8B2-B393-46D8-BB47-01BD1293BDD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00A-FE78-413D-9F9C-4A9CCC97316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02A-26A6-4E82-92B7-C04D6D6A773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DE8-1F11-4CF3-8338-8A046D53BD9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EF99-0810-4EC6-A7BB-4DDF7A24452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32AA-C2B6-4D57-A066-3DDC220B1B9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CC3-2301-4EE5-9D70-F86B6823F51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6E7-E58F-451C-8409-EC50B7139A5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2060280"/>
            <a:ext cx="6172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TEMA 3. LOS ALIMENTOS Y LA DIETA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723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5. CONSERVACIÓN DE LOS ALIMENT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l vacío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mpaquetar sin air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impide la acción de agent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tmosfér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no elimina gérme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eshidrat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: elimina el agua de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limento (liofilización=congelar y separar el agu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eserva el alimento durante más tiemp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ierde características originales y destruye algunos nutrien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Calo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sterilización: altas temperaturas poco tiempo (110 Cº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Ventajas 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conserva el alimento envasado indefinidament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Schoolbook"/>
              </a:rPr>
              <a:t>Inconveniente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destruye algunas vitamina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asteurización: temperaturas de 72Cº durante 15 segun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mantiene el valor nutriciona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Schoolbook"/>
              </a:rPr>
              <a:t>inconvenientes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sólo conserva 48 hora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5" descr="conservacion_alimentos"/>
          <p:cNvPicPr/>
          <p:nvPr/>
        </p:nvPicPr>
        <p:blipFill>
          <a:blip r:embed="rId1"/>
          <a:stretch/>
        </p:blipFill>
        <p:spPr>
          <a:xfrm>
            <a:off x="5715000" y="765000"/>
            <a:ext cx="3429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í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antiene los alimentos a bajas temperatur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Refrigeración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or encima de 0 º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Congel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por debajo de 0º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tege el valor nutricion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no elimina gérmenes, sólo retras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u crecimien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ditivos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impide el desarrollo de microorganismos añadiendo sal, vinagre, aditivos químicos, sustancias volátile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sencillo y económic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Inconvenientes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limina propiedades originales y destruye nutrient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5" descr="1b0294273513b56c2386bc513c8f8fe4"/>
          <p:cNvPicPr/>
          <p:nvPr/>
        </p:nvPicPr>
        <p:blipFill>
          <a:blip r:embed="rId1"/>
          <a:stretch/>
        </p:blipFill>
        <p:spPr>
          <a:xfrm>
            <a:off x="6659640" y="981000"/>
            <a:ext cx="22651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6. LOS ALIMENTOS TRANSGÉNIC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95280" y="1125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rganismo transgénic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al que se le ha introducido información genética procedente de otro ser vivo para que produzca características propias de es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 transgénic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al que proviene de organismos transgénicos o los contien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Ejemplo:</a:t>
            </a:r>
            <a:r>
              <a:rPr b="0" lang="es-ES" sz="2400" spc="-1" strike="noStrike">
                <a:solidFill>
                  <a:srgbClr val="ff9900"/>
                </a:solidFill>
                <a:latin typeface="Century Schoolbook"/>
              </a:rPr>
              <a:t> (trigo, arroz, maíz) patatas transgénicas contra el escarabajo de la patat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5" descr="transgenicos"/>
          <p:cNvPicPr/>
          <p:nvPr/>
        </p:nvPicPr>
        <p:blipFill>
          <a:blip r:embed="rId1"/>
          <a:stretch/>
        </p:blipFill>
        <p:spPr>
          <a:xfrm>
            <a:off x="1476360" y="4005360"/>
            <a:ext cx="597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1. LA DIE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4000" y="907560"/>
            <a:ext cx="8496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 función de los alimentos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Plástic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ricos en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proteínas y sales mineral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Construir nuestra propia materia, crecer y reponer los materiales perdid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Energétic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ricos en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glúcidos y lípi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iberan energía (realiza trabajo muscular, mantiene tª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Regulador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con sales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minerales y vitamin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egulan que los procesos se desarrollen con normal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 rueda de los aliment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grupamos los alimentos segú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tipo de nutrientes que aporta 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 función en el organ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5" descr="rueda"/>
          <p:cNvPicPr/>
          <p:nvPr/>
        </p:nvPicPr>
        <p:blipFill>
          <a:blip r:embed="rId1"/>
          <a:stretch/>
        </p:blipFill>
        <p:spPr>
          <a:xfrm>
            <a:off x="5580000" y="4149720"/>
            <a:ext cx="3384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73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RUEDA DE LOS ALIMENTO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leche y derivad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carnes pescados y huev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patatas, legumbres y frutos sec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: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V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Hortalizas y verdur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Frut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cereales, azúcares y cereale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aceites y gras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7" descr="rueda de losalimentos"/>
          <p:cNvPicPr/>
          <p:nvPr/>
        </p:nvPicPr>
        <p:blipFill>
          <a:blip r:embed="rId1"/>
          <a:stretch/>
        </p:blipFill>
        <p:spPr>
          <a:xfrm>
            <a:off x="324000" y="885960"/>
            <a:ext cx="84247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333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La dieta mediterránea: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dieta que siguen los habitantes de los países de la cuenca mediterrán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utrientes de la dieta mediterráne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Glúcid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base de la dieta, aportados por (cereales, legumbres, frutas y verduras fresc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Proteínas;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ás del pescado que de la car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Gra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aceite de oliva (grasas insaturad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Vitaminas y sales mineral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de frutos secos y verduras fres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5" descr="dieta_equilibrada1"/>
          <p:cNvPicPr/>
          <p:nvPr/>
        </p:nvPicPr>
        <p:blipFill>
          <a:blip r:embed="rId1"/>
          <a:stretch/>
        </p:blipFill>
        <p:spPr>
          <a:xfrm>
            <a:off x="5435640" y="4149720"/>
            <a:ext cx="35290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2. UNA DIETA ADECUADA A NUESTRAS NECES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2 CuadroTexto"/>
          <p:cNvSpPr/>
          <p:nvPr/>
        </p:nvSpPr>
        <p:spPr>
          <a:xfrm>
            <a:off x="755640" y="1413000"/>
            <a:ext cx="741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tipo de energía usa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til, la que contienen los nutrientes, se llama energía 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iración celular se libera tres tipos de energ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ánica: movimiento, músculos, movimiento esqueleto, corazón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ímica: fabricar nuevas moléculas. La energía se almacena en los compuestos que se fabric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rmica o calor: mantener la temperatura corp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nergía que aportan 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nutriente aporta una cantidad de energ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g de glúcido y proteína      4,3 K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g de grasa          9 K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imentos contienen una proporción característica de todos los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a dieta equilibrada, los glúcidos deben aportar 55 % de la energía, las grasas 30 % y las proteínas 1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5 Flecha derecha"/>
          <p:cNvSpPr/>
          <p:nvPr/>
        </p:nvSpPr>
        <p:spPr>
          <a:xfrm>
            <a:off x="3492360" y="4869000"/>
            <a:ext cx="216000" cy="46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6 Flecha derecha"/>
          <p:cNvSpPr/>
          <p:nvPr/>
        </p:nvSpPr>
        <p:spPr>
          <a:xfrm>
            <a:off x="2340000" y="5157720"/>
            <a:ext cx="360360" cy="44640"/>
          </a:xfrm>
          <a:prstGeom prst="rightArrow">
            <a:avLst>
              <a:gd name="adj1" fmla="val 50000"/>
              <a:gd name="adj2" fmla="val 4978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2 CuadroTexto"/>
          <p:cNvSpPr/>
          <p:nvPr/>
        </p:nvSpPr>
        <p:spPr>
          <a:xfrm>
            <a:off x="395280" y="692280"/>
            <a:ext cx="784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nta energía necesita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necesidades energéticas que una persona necesita en completo reposo, ayuno y temperatura adecuada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tabolismo bas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l sexo, altura, edad y peso, s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jeres: 7,4 x peso en Kg + 428 x altura en m + 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s: 16,6 x peso en Kg + 77 x altura en m + 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es factores que afectan al consumo de energía son: actividad física, temperatura ambiental y activida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dieta energéticamente 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que aporta todos los tipos de nutrientes y en las cantidades adecu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 adulto, con el peso adecuado a su edad y sexo, tiene sus necesidades energéticas cubiertas si su peso se mantiene e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3. TRASTORNOS RELACIONADOS CON LA ALIMENTACIÓN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malnutrició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hace referencia a una nutrición inadecuada, debida a una alimentación deficiente o un consumo excesivo de aliment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Enfermedad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Desnutrición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la cantidad de alimento que se toma no es suficiente para satisfacer las necesidades de energía del organismo (1º en consumirse glúcidos, luego lípidos y último proteínas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nfermedades carenciales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falta de algún nutriente necesario (beriberi=carencia de vitamina B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Anorexia nervios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miedo a ganar peso y una imagen distorsionada del propio cuerpo. Dieta estricta y exceso de ejercici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ulimi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ingerir grandes cantidades de alimentos para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espués provocar el vómito y evitar engorda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Obesidad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exceso de grasa corporal por la ingestió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excesiva de alimentos energéticos y una vid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sedentar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4" descr="Cartel_DNN_2008_HR"/>
          <p:cNvPicPr/>
          <p:nvPr/>
        </p:nvPicPr>
        <p:blipFill>
          <a:blip r:embed="rId1"/>
          <a:stretch/>
        </p:blipFill>
        <p:spPr>
          <a:xfrm>
            <a:off x="7020000" y="4292640"/>
            <a:ext cx="15318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Century Schoolbook"/>
              </a:rPr>
              <a:t>4. EL ETIQUETAD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nomin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lidad y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odo de emple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trucciones para s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erv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echa de consum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eferente / caduc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sta de ingred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ación nutricio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dentificación de l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do alcohólico (en bebidas con más de 1,2% de alcohol en su volum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5" descr="etiqueta"/>
          <p:cNvPicPr/>
          <p:nvPr/>
        </p:nvPicPr>
        <p:blipFill>
          <a:blip r:embed="rId1"/>
          <a:stretch/>
        </p:blipFill>
        <p:spPr>
          <a:xfrm>
            <a:off x="4284720" y="1700280"/>
            <a:ext cx="4643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95280" y="189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Aditivos alimentarios: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sustancias que se añaden a los alimentos par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ejorar su conservación o modificar sus característica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Conserv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preserva los alimentos sin alteraciones durante más tiemp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Estabiliz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mantiene las emulsiones de grasa en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Gelific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da consistencia a los alimentos poco sóli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Color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mantienen el color del alimento o lo modifi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Picture 5" descr="nestea"/>
          <p:cNvPicPr/>
          <p:nvPr/>
        </p:nvPicPr>
        <p:blipFill>
          <a:blip r:embed="rId1"/>
          <a:stretch/>
        </p:blipFill>
        <p:spPr>
          <a:xfrm>
            <a:off x="2843280" y="3838680"/>
            <a:ext cx="3990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0:46:38Z</dcterms:created>
  <dc:creator>BIO_GEOLO_3</dc:creator>
  <dc:description/>
  <dc:language>en-US</dc:language>
  <cp:lastModifiedBy>Centor</cp:lastModifiedBy>
  <dcterms:modified xsi:type="dcterms:W3CDTF">2015-12-29T13:35:09Z</dcterms:modified>
  <cp:revision>77</cp:revision>
  <dc:subject/>
  <dc:title>TEMA 2: DIETA Y ALIMENTOS:</dc:title>
</cp:coreProperties>
</file>